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5E2-7394-494F-B748-C2AFC0BB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9F1-9254-4FA6-B0D6-2A4F47C3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13A-B02D-4534-9757-22DC9BCB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6D2-CD74-44D8-91FC-92F73FAE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2C34-654E-433E-89F9-1A07F95A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3206-5D3C-4D34-AA60-B82D6B2B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6FE-1D88-49C8-B3CF-50884CBD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760D-1D9B-4D56-A9E2-73132328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5B19-EC17-4C2E-B405-172E1352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9F0F-A5AD-4653-8138-0B90A3A8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9A3D-8712-4ABB-8D73-DCB2FF55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7A0-3D3E-4091-80AB-5306A11B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11FA-3C69-46B7-B0B0-6D4550CA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4396-4EE2-45B4-BD43-2EFBC12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8311-55A2-4C8B-8552-373F04EC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B410-C85A-4F02-9CC8-FCB1CC30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B50E-C609-4B99-A346-49D5A2C9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7F1-8CC4-4D3E-AD4B-3EA73928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C1C-50E3-40A0-81D7-9AB55103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C6B-0FD6-42B9-8700-2D527B6A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53B-C9B2-40E6-A76C-C72D8FD2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0C9-3887-4D58-9B57-0D0FBDB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734-01B7-46E9-8E75-70D3C6A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ECD-7F16-47B3-A3D5-C771C58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CA8-3A37-4561-A030-BF08F57BE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A76-2E50-49CB-9149-33AF24F052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 and Me, We and 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 and 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n the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subject par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of a sente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Jon and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had spaghetti for supp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me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n the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predicate par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of a sente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o you want to come with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me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lways use yourself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las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when you talk about yourself and another perso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We and 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we and us when you talk about yourself and another perso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we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n the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subject par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of a sente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We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had spaghetti for supp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u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n the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predicate par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of a sente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o you want to come with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u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 and Me, We and 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___________ are going to the movies. (We or U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you go with ________ to the party? (I or m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ose flowers belong to ________. (we or u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a and ___________ are moving to Texas with our parents. (I or m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8:03:18Z</dcterms:created>
  <dc:creator>GCSD</dc:creator>
  <dc:description/>
  <dc:language>en-US</dc:language>
  <cp:lastModifiedBy>teacher</cp:lastModifiedBy>
  <dcterms:modified xsi:type="dcterms:W3CDTF">2011-02-07T01:13:03Z</dcterms:modified>
  <cp:revision>6</cp:revision>
  <dc:subject/>
  <dc:title>I and Me, We and Us</dc:title>
</cp:coreProperties>
</file>